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C641-DDBE-4BB9-9F93-56445E57F1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09F7-E77A-46DF-A017-E49E1383F3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208-81CF-4A04-8403-D7600208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8CA-8A5E-478C-9519-1A389A76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5C7-53B6-4A4C-ADB2-E318C32E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C4C-BA5A-4C56-997D-B472C630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9A6-23DB-4289-9985-0CE5C1C3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916-0EA7-4A28-969C-03401BEE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CAF-8BA9-4BB2-9298-F8575740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8B5-3E7F-44B5-A772-83C9F16F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2E3-2F72-4284-B62D-4B9617E8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826-8A88-4E2B-BC07-2AC4A1B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80E-6FBB-4667-A9EC-842E5B8C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5F4-3A27-4943-9610-479CB424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38F1-B986-44A6-A7A5-F5ED56E612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24000" y="134136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Propisi"/>
                <a:ea typeface="Times New Roman"/>
              </a:rPr>
              <a:t>ой  ый  ий  ая  яя  ое  е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971640" y="1268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правильно писа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овые оконч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ён прилагательны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826920" y="1413000"/>
            <a:ext cx="7058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замечательный ден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дали старинная креп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https://ds03.infourok.ru/uploads/ex/118b/0004a56a-9effdaee/img17.jpg"/>
          <p:cNvPicPr/>
          <p:nvPr/>
        </p:nvPicPr>
        <p:blipFill>
          <a:blip r:embed="rId1"/>
          <a:stretch/>
        </p:blipFill>
        <p:spPr>
          <a:xfrm>
            <a:off x="611280" y="33336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шн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й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котёнок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ив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ый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цветок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еньк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й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йчик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ьн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тель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л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бо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979720" y="1268280"/>
            <a:ext cx="647640" cy="4381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132000" y="1916280"/>
            <a:ext cx="648000" cy="431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843280" y="3192480"/>
            <a:ext cx="647640" cy="3808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3355920" y="2554200"/>
            <a:ext cx="576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2736720" y="3782880"/>
            <a:ext cx="576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611280" y="907920"/>
            <a:ext cx="7921440" cy="31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авописание родовых окончан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мён прилагательны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611280" y="692280"/>
            <a:ext cx="784836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8604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горит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8604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1. Найди имя существительное, определи его р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8604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Задай от имени существительного вопрос к имени прилагательн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8604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3. По роду имени существительного и вопросу определи род имени прилагатель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8604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4. Выдели окончание.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63640" y="2133720"/>
          <a:ext cx="6624720" cy="2738160"/>
        </p:xfrm>
        <a:graphic>
          <a:graphicData uri="http://schemas.openxmlformats.org/drawingml/2006/table">
            <a:tbl>
              <a:tblPr/>
              <a:tblGrid>
                <a:gridCol w="828720"/>
                <a:gridCol w="827280"/>
                <a:gridCol w="828360"/>
                <a:gridCol w="828720"/>
                <a:gridCol w="827280"/>
                <a:gridCol w="828720"/>
                <a:gridCol w="1655640"/>
              </a:tblGrid>
              <a:tr h="4554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45360" rIns="45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" name="TextBox 2"/>
          <p:cNvSpPr/>
          <p:nvPr/>
        </p:nvSpPr>
        <p:spPr>
          <a:xfrm>
            <a:off x="2195640" y="4940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        2         3        4         5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71640" y="42544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1003320" y="41562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971640" y="37148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015920" y="32418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114560" y="28018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я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123920" y="23320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835280" y="2205000"/>
          <a:ext cx="4968720" cy="2739960"/>
        </p:xfrm>
        <a:graphic>
          <a:graphicData uri="http://schemas.openxmlformats.org/drawingml/2006/table">
            <a:tbl>
              <a:tblPr/>
              <a:tblGrid>
                <a:gridCol w="828720"/>
                <a:gridCol w="826920"/>
                <a:gridCol w="828720"/>
                <a:gridCol w="828720"/>
                <a:gridCol w="826920"/>
                <a:gridCol w="828720"/>
              </a:tblGrid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Box 2"/>
          <p:cNvSpPr/>
          <p:nvPr/>
        </p:nvSpPr>
        <p:spPr>
          <a:xfrm>
            <a:off x="2195640" y="494028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        2         3        4         5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826920" y="422100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936720" y="41562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922320" y="37386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952560" y="32511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058760" y="28004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я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089000" y="23367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0"/>
          <p:cNvSpPr/>
          <p:nvPr/>
        </p:nvSpPr>
        <p:spPr>
          <a:xfrm flipV="1">
            <a:off x="2644920" y="2625480"/>
            <a:ext cx="865080" cy="18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2"/>
          <p:cNvSpPr/>
          <p:nvPr/>
        </p:nvSpPr>
        <p:spPr>
          <a:xfrm>
            <a:off x="3500280" y="2646360"/>
            <a:ext cx="863640" cy="93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14"/>
          <p:cNvSpPr/>
          <p:nvPr/>
        </p:nvSpPr>
        <p:spPr>
          <a:xfrm flipV="1">
            <a:off x="4344840" y="3114720"/>
            <a:ext cx="863640" cy="466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16"/>
          <p:cNvSpPr/>
          <p:nvPr/>
        </p:nvSpPr>
        <p:spPr>
          <a:xfrm>
            <a:off x="5189400" y="3122640"/>
            <a:ext cx="768600" cy="925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/>
  <dc:description/>
  <dc:language>en-US</dc:language>
  <cp:lastModifiedBy>Кабинет №37</cp:lastModifiedBy>
  <dcterms:modified xsi:type="dcterms:W3CDTF">2021-03-10T12:52:08Z</dcterms:modified>
  <cp:revision>36</cp:revision>
  <dc:subject/>
  <dc:title>Заголовок слайда</dc:title>
</cp:coreProperties>
</file>